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0BC30-1306-4AE8-99C2-6F1AF61FEA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Lit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we read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we read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ing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ing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benefits children's growth as readers and lear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teaches children to appreciate the written w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children develop important language skills that will help them learn to read on their 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children’s listening skills and attention sp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benefits children's growth as readers and lear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teaches children to appreciate the written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children develop important language skills that will help them learn to read on their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children’s listening skills and attention sp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br>
              <a:rPr sz="1200"/>
            </a:br>
            <a:r>
              <a:rPr b="0" lang="en-US" sz="1200" spc="-1" strike="noStrike">
                <a:solidFill>
                  <a:srgbClr val="000000"/>
                </a:solidFill>
                <a:latin typeface="Times New Roman"/>
              </a:rPr>
              <a:t>(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prepares them for learning to read and keeps them reading as they learn and g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relationships between the child and the rea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them to learn social sk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ntroduces the child to new concep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br>
              <a:rPr sz="1200"/>
            </a:br>
            <a:r>
              <a:rPr b="0" lang="en-US" sz="1200" spc="-1" strike="noStrike">
                <a:solidFill>
                  <a:srgbClr val="000000"/>
                </a:solidFill>
                <a:latin typeface="Times New Roman"/>
              </a:rPr>
              <a:t>(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prepares them for learning to read and keeps them reading as they learn and 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relationships between the child and the r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them to learn soci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ntroduces the child to new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reading to a child affect the 4 areas of Develop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 learning about written w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interaction with ot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otional- creates feel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holding book and turning p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reading to a child affect the 4 areas o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 learning about written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interaction with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otional- creates fee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holding book and turning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books have a beginning, middle, an ending, and a conflict or problem that is being sol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use language that is pleasing to listen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evoke feelings from the aud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have illustrations that are consistent with the tex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books have a beginning, middle, an ending, and a conflict or problem that is being s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use language that is pleasing to listen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evoke feelings from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have illustrations that are consistent with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Books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decott Medal and Honor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bery Medal and Honor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Books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decott Medal and Honor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bery Medal and Honor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 for picking books for preschool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d books that they can relate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 stories with simple plo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k tales and books with animals that act like humans are pop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ttle children like rhyming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k books that are interesting to you to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 for picking books for preschoo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d books that they can relat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 stories with simple pl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k tales and books with animals that act like humans are pop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ttle children like rhyming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k books that are interesting to you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6F66B-2684-46E1-8A0D-CFAF9711E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0E918-FC0B-4268-817D-9361813FE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79D5A-E32C-47AC-A8E0-48B21142B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7CD5F-B7AB-4688-A5E8-F9FFAD8D2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DEEA2-64C3-42D7-A076-5DF53DF75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F05AC-29BB-465D-944E-2FC09E15A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5F563-6890-4E6F-80EC-E3CB77DDA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1A223-B67A-47C5-A5EB-12440C204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7DACC-5D3D-45CE-A714-CD42EEBF3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0398C-BD84-439B-B3C2-38EAD3CDA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9848A-E4B7-4C18-98B3-5A36592EC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182C7-DA00-4868-BB72-6446C349D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71902-4E24-403B-85A3-364E83894C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 descr="roseb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9360">
            <a:solidFill>
              <a:srgbClr val="0033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66"/>
                </a:solidFill>
                <a:latin typeface="Times New Roman"/>
              </a:rPr>
              <a:t>Children’s Literature</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Text Box 15"/>
          <p:cNvSpPr/>
          <p:nvPr/>
        </p:nvSpPr>
        <p:spPr>
          <a:xfrm>
            <a:off x="458280" y="2590920"/>
            <a:ext cx="7884720" cy="289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Why should we read to childre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What are characteristics of good children’s book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cloudbow"/>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32004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Schoolbook SWA"/>
              </a:rPr>
              <a:t>Reading to Children</a:t>
            </a:r>
            <a:endParaRPr b="0" lang="en-US" sz="4800" spc="-1" strike="noStrike">
              <a:solidFill>
                <a:srgbClr val="000000"/>
              </a:solidFill>
              <a:latin typeface="Times New Roman"/>
            </a:endParaRPr>
          </a:p>
        </p:txBody>
      </p:sp>
      <p:pic>
        <p:nvPicPr>
          <p:cNvPr id="54" name="Picture 5" descr="momsday3"/>
          <p:cNvPicPr/>
          <p:nvPr/>
        </p:nvPicPr>
        <p:blipFill>
          <a:blip r:embed="rId2"/>
          <a:stretch/>
        </p:blipFill>
        <p:spPr>
          <a:xfrm>
            <a:off x="2590920" y="2057400"/>
            <a:ext cx="3770280" cy="2741760"/>
          </a:xfrm>
          <a:prstGeom prst="rect">
            <a:avLst/>
          </a:prstGeom>
          <a:ln w="0">
            <a:noFill/>
          </a:ln>
        </p:spPr>
      </p:pic>
      <p:sp>
        <p:nvSpPr>
          <p:cNvPr id="55" name="Text Box 6"/>
          <p:cNvSpPr/>
          <p:nvPr/>
        </p:nvSpPr>
        <p:spPr>
          <a:xfrm>
            <a:off x="4403880" y="522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09120"/>
            <a:ext cx="82296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 we read to children?</a:t>
            </a:r>
            <a:endParaRPr b="0" lang="en-US" sz="4400" spc="-1" strike="noStrike">
              <a:solidFill>
                <a:srgbClr val="000000"/>
              </a:solidFill>
              <a:latin typeface="Times New Roman"/>
            </a:endParaRPr>
          </a:p>
        </p:txBody>
      </p:sp>
      <p:sp>
        <p:nvSpPr>
          <p:cNvPr id="57" name="Text Box 5"/>
          <p:cNvSpPr/>
          <p:nvPr/>
        </p:nvSpPr>
        <p:spPr>
          <a:xfrm>
            <a:off x="1447920" y="19810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6"/>
          <p:cNvSpPr/>
          <p:nvPr/>
        </p:nvSpPr>
        <p:spPr>
          <a:xfrm>
            <a:off x="457200" y="1676520"/>
            <a:ext cx="8229600" cy="4572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It is fun!</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benefits children's growth as readers and learners.</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teaches children to appreciate the written word.</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children develop important language skills that will help them learn to read on their own.</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build children’s listening skills and attention spa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 we read to children?</a:t>
            </a:r>
            <a:br>
              <a:rPr sz="4400"/>
            </a:b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523880"/>
            <a:ext cx="7772400" cy="4114800"/>
          </a:xfrm>
          <a:prstGeom prst="rect">
            <a:avLst/>
          </a:prstGeom>
          <a:solidFill>
            <a:srgbClr val="ccffff"/>
          </a:solidFill>
          <a:ln w="0">
            <a:noFill/>
          </a:ln>
        </p:spPr>
        <p:txBody>
          <a:bodyPr anchor="t">
            <a:normAutofit fontScale="98000"/>
          </a:bodyPr>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prepares them for learning to read and keeps them reading as they learn and grow.</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build relationships between the child and the reader.</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them to learn social skills.</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introduces the child to new concep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es reading to a child affect the 4 areas of Development?</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2819160"/>
            <a:ext cx="7772400" cy="32763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llectual- learning about written wor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interaction with oth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otional- creates feelin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holding book and turning pages</a:t>
            </a:r>
            <a:endParaRPr b="0" lang="en-US" sz="3200" spc="-1" strike="noStrike">
              <a:solidFill>
                <a:srgbClr val="000000"/>
              </a:solidFill>
              <a:latin typeface="Times New Roman"/>
            </a:endParaRPr>
          </a:p>
        </p:txBody>
      </p:sp>
      <p:pic>
        <p:nvPicPr>
          <p:cNvPr id="63" name="Picture 4" descr="kidz"/>
          <p:cNvPicPr/>
          <p:nvPr/>
        </p:nvPicPr>
        <p:blipFill>
          <a:blip r:embed="rId1"/>
          <a:stretch/>
        </p:blipFill>
        <p:spPr>
          <a:xfrm>
            <a:off x="685800" y="457200"/>
            <a:ext cx="3886200" cy="542880"/>
          </a:xfrm>
          <a:prstGeom prst="rect">
            <a:avLst/>
          </a:prstGeom>
          <a:ln w="0">
            <a:noFill/>
          </a:ln>
        </p:spPr>
      </p:pic>
      <p:pic>
        <p:nvPicPr>
          <p:cNvPr id="64" name="Picture 5" descr="kidz"/>
          <p:cNvPicPr/>
          <p:nvPr/>
        </p:nvPicPr>
        <p:blipFill>
          <a:blip r:embed="rId2"/>
          <a:stretch/>
        </p:blipFill>
        <p:spPr>
          <a:xfrm>
            <a:off x="4572000" y="457200"/>
            <a:ext cx="3886200" cy="542880"/>
          </a:xfrm>
          <a:prstGeom prst="rect">
            <a:avLst/>
          </a:prstGeom>
          <a:ln w="0">
            <a:noFill/>
          </a:ln>
        </p:spPr>
      </p:pic>
      <p:pic>
        <p:nvPicPr>
          <p:cNvPr id="65" name="Picture 6" descr="kidz"/>
          <p:cNvPicPr/>
          <p:nvPr/>
        </p:nvPicPr>
        <p:blipFill>
          <a:blip r:embed="rId3"/>
          <a:stretch/>
        </p:blipFill>
        <p:spPr>
          <a:xfrm>
            <a:off x="685800" y="5486400"/>
            <a:ext cx="3886200" cy="542880"/>
          </a:xfrm>
          <a:prstGeom prst="rect">
            <a:avLst/>
          </a:prstGeom>
          <a:ln w="0">
            <a:noFill/>
          </a:ln>
        </p:spPr>
      </p:pic>
      <p:pic>
        <p:nvPicPr>
          <p:cNvPr id="66" name="Picture 7" descr="kidz"/>
          <p:cNvPicPr/>
          <p:nvPr/>
        </p:nvPicPr>
        <p:blipFill>
          <a:blip r:embed="rId4"/>
          <a:stretch/>
        </p:blipFill>
        <p:spPr>
          <a:xfrm>
            <a:off x="4572000" y="5486400"/>
            <a:ext cx="3886200" cy="54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are characteristics of good children’s books?</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Text Box 11"/>
          <p:cNvSpPr/>
          <p:nvPr/>
        </p:nvSpPr>
        <p:spPr>
          <a:xfrm>
            <a:off x="0" y="2174760"/>
            <a:ext cx="9144000" cy="423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books have a beginning, middle, an ending, and a conflict or problem that is being solv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use language that is pleasing to listen t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evoke feelings from the audi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have illustrations that are consistent with the text.</a:t>
            </a:r>
            <a:endParaRPr b="0" lang="en-US" sz="2400" spc="-1" strike="noStrike">
              <a:solidFill>
                <a:srgbClr val="000000"/>
              </a:solidFill>
              <a:latin typeface="Times New Roman"/>
            </a:endParaRPr>
          </a:p>
          <a:p>
            <a:pPr lvl="2" marL="914400">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22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ren’s Books Award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066680"/>
            <a:ext cx="7772400" cy="5029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decott Medal and Honor Awards</a:t>
            </a:r>
            <a:endParaRPr b="0" lang="en-US" sz="2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bery Medal and Honor Awards</a:t>
            </a:r>
            <a:endParaRPr b="0" lang="en-US" sz="2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2" name="Picture 10" descr="Caldecott_Honor_Seal"/>
          <p:cNvPicPr/>
          <p:nvPr/>
        </p:nvPicPr>
        <p:blipFill>
          <a:blip r:embed="rId1"/>
          <a:stretch/>
        </p:blipFill>
        <p:spPr>
          <a:xfrm>
            <a:off x="5486400" y="2286000"/>
            <a:ext cx="1069920" cy="1069920"/>
          </a:xfrm>
          <a:prstGeom prst="rect">
            <a:avLst/>
          </a:prstGeom>
          <a:ln w="0">
            <a:noFill/>
          </a:ln>
        </p:spPr>
      </p:pic>
      <p:pic>
        <p:nvPicPr>
          <p:cNvPr id="73" name="Picture 11" descr="cmedal"/>
          <p:cNvPicPr/>
          <p:nvPr/>
        </p:nvPicPr>
        <p:blipFill>
          <a:blip r:embed="rId2"/>
          <a:stretch/>
        </p:blipFill>
        <p:spPr>
          <a:xfrm>
            <a:off x="2590920" y="2286000"/>
            <a:ext cx="2266920" cy="1089000"/>
          </a:xfrm>
          <a:prstGeom prst="rect">
            <a:avLst/>
          </a:prstGeom>
          <a:ln w="0">
            <a:noFill/>
          </a:ln>
        </p:spPr>
      </p:pic>
      <p:pic>
        <p:nvPicPr>
          <p:cNvPr id="74" name="Picture 12" descr="nmedal"/>
          <p:cNvPicPr/>
          <p:nvPr/>
        </p:nvPicPr>
        <p:blipFill>
          <a:blip r:embed="rId3"/>
          <a:stretch/>
        </p:blipFill>
        <p:spPr>
          <a:xfrm>
            <a:off x="2590920" y="4952880"/>
            <a:ext cx="2340000" cy="1100160"/>
          </a:xfrm>
          <a:prstGeom prst="rect">
            <a:avLst/>
          </a:prstGeom>
          <a:ln w="0">
            <a:noFill/>
          </a:ln>
        </p:spPr>
      </p:pic>
      <p:pic>
        <p:nvPicPr>
          <p:cNvPr id="75" name="Picture 14" descr="Newbery_Honor_Seal"/>
          <p:cNvPicPr/>
          <p:nvPr/>
        </p:nvPicPr>
        <p:blipFill>
          <a:blip r:embed="rId4"/>
          <a:stretch/>
        </p:blipFill>
        <p:spPr>
          <a:xfrm>
            <a:off x="5486400" y="4876920"/>
            <a:ext cx="1069920" cy="107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ips for picking books for preschool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Find books that they can relate to.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Read stories with simple plot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Folk tales and books with animals that act like humans are popula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Little children like rhyming book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Pick books that are interesting to you to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22:33:11Z</dcterms:created>
  <dc:creator>Tracy Bean</dc:creator>
  <dc:description/>
  <dc:language>en-US</dc:language>
  <cp:lastModifiedBy>RomaK</cp:lastModifiedBy>
  <dcterms:modified xsi:type="dcterms:W3CDTF">2015-09-04T10:35:27Z</dcterms:modified>
  <cp:revision>38</cp:revision>
  <dc:subject/>
  <dc:title>Children’s Literature</dc:title>
</cp:coreProperties>
</file>